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D9E-47EE-4C13-BE77-33E1CBE0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BEE-A9AE-40BE-B452-10DCB47A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2D6-203B-4420-9590-8FF1726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E01-8DD6-4584-8CD1-ECF4D854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DEB-216A-454F-ADA7-31F9306D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F2D-7A57-416B-A43F-B585126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69F-581E-42D6-82C6-6ABD72EE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DD5-6C6F-41C7-88ED-F5AA6B1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CB3-F396-43DC-BCF5-FA05A20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C98-DA58-4D55-984E-FCCF9981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683-708C-4A5F-ACC9-76AC9D6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A66-66D4-432A-98D1-D5B68B3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0CC-9CBF-400A-934E-E8D0B9D7AB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90920" y="28954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057400" y="2895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Melt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ound 2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n comes out and the temperature goes up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unshine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Sound 1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ing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Melting ice 2.m4v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Sound 4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sicl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le wa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the water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e caps in Antarctica are mel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ice caps which are solid melt, they provide water, which is a liquid for the water cy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what temperature does ice me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under 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10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under 100 degree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involves a substance changing from a _________ to a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to a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o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to a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to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l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melting related to the water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ound 1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Sound 1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812520" cy="81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atter which holds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DSC04855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SC04856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Sound 1" descr=""/>
          <p:cNvPicPr/>
          <p:nvPr/>
        </p:nvPicPr>
        <p:blipFill>
          <a:blip r:embed="rId3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atter which takes on the shape of its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DSC0486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Sound 1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ter changes from a  solid state to a liquid state after being exposed to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DSC0485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Sound 1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at which a substance m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sert thermometer gra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ound 1" descr=""/>
          <p:cNvPicPr/>
          <p:nvPr/>
        </p:nvPicPr>
        <p:blipFill>
          <a:blip r:embed="rId1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morning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sno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Sound 1" descr=""/>
          <p:cNvPicPr/>
          <p:nvPr/>
        </p:nvPicPr>
        <p:blipFill>
          <a:blip r:embed="rId2"/>
          <a:stretch/>
        </p:blipFill>
        <p:spPr>
          <a:xfrm>
            <a:off x="4165560" y="302256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next when the temperature goes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nowman 2"/>
          <p:cNvPicPr/>
          <p:nvPr/>
        </p:nvPicPr>
        <p:blipFill>
          <a:blip r:embed="rId1"/>
          <a:stretch/>
        </p:blipFill>
        <p:spPr>
          <a:xfrm>
            <a:off x="2286000" y="160020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Sound 1" descr=""/>
          <p:cNvPicPr/>
          <p:nvPr/>
        </p:nvPicPr>
        <p:blipFill>
          <a:blip r:embed="rId2"/>
          <a:stretch/>
        </p:blipFill>
        <p:spPr>
          <a:xfrm>
            <a:off x="7924680" y="29718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0:11:11Z</dcterms:created>
  <dc:creator> </dc:creator>
  <dc:description/>
  <dc:language>en-US</dc:language>
  <cp:lastModifiedBy>Mehrdad Saadat</cp:lastModifiedBy>
  <dcterms:modified xsi:type="dcterms:W3CDTF">2011-11-06T20:09:52Z</dcterms:modified>
  <cp:revision>22</cp:revision>
  <dc:subject/>
  <dc:title>Words to Know</dc:title>
</cp:coreProperties>
</file>